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51A5-B225-4B79-AF40-CC4830BE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222-FB8F-4849-A26B-96766F2B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8B46-ACDB-4D58-971F-F0CD1D6A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C6A1-B5DC-467C-8F24-6655C5FF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1907-FCFA-407E-B517-55BBF8DE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1A1A-A92B-4C49-A6E7-0A4DD97A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5763-F761-49AC-847A-307B709B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06B2-CA50-4454-B922-E74D633A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2620-6EFA-4BD1-AAF7-6C53F6C6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41D7-2903-4F27-8A77-AACCA684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C326-0510-403F-9B05-73B2365E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D6B-39E6-4569-A4AF-94472474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DDF8-CBB1-498E-97DF-CB3D095F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A9FE-8A5F-4AC5-B822-17E11E45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E496-D153-480D-921B-3DA2D601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6D0B-CFB3-4166-AE9F-6F76DE42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EDAC-F716-4FF6-B2FD-D41FA8FD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B2F0-46D2-47CE-A12C-61F8FB9B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3E7B-FFA3-42D8-8457-FB9A3F98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6833-C2BD-4B7F-AAAF-B999AFC6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26F4-5A82-40D1-8730-C7B3C0D2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355B-CD4B-4685-9BEB-E38D76D4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9381-6559-409A-AA84-35ECAA02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67E8-7605-463E-9ED2-0FD6D58F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6408-BD25-4C22-BF90-D99BDE97B3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D2B6-1BC3-4342-8405-8371BCCFBB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y do you think the titanic sank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3124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ich one is more den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hich one is more d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752480" y="2590920"/>
            <a:ext cx="990720" cy="99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4343400" y="2514600"/>
            <a:ext cx="205740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"/>
          <p:cNvSpPr/>
          <p:nvPr/>
        </p:nvSpPr>
        <p:spPr>
          <a:xfrm>
            <a:off x="1905120" y="2743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2209680" y="28195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1905120" y="32767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2286000" y="3124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2514600" y="2743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4572000" y="2743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4724280" y="39625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5638680" y="4267080"/>
            <a:ext cx="15264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5"/>
          <p:cNvSpPr/>
          <p:nvPr/>
        </p:nvSpPr>
        <p:spPr>
          <a:xfrm>
            <a:off x="6019920" y="3124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density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Density = </a:t>
            </a:r>
            <a:r>
              <a:rPr b="0" lang="en-US" sz="3200" spc="-1" strike="noStrike" u="sng">
                <a:solidFill>
                  <a:srgbClr val="1919ff"/>
                </a:solidFill>
                <a:uFillTx/>
                <a:latin typeface="Arial"/>
              </a:rPr>
              <a:t> mass 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  OR     mass ÷ volu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Units for density: </a:t>
            </a:r>
            <a:r>
              <a:rPr b="0" lang="en-US" sz="3200" spc="-1" strike="noStrike" u="sng">
                <a:solidFill>
                  <a:srgbClr val="1919ff"/>
                </a:solidFill>
                <a:uFillTx/>
                <a:latin typeface="Arial"/>
              </a:rPr>
              <a:t> g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cm</a:t>
            </a: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172200" y="3352680"/>
            <a:ext cx="1676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REMEMBER UNI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’s try a density problem togeth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k has a paper clip. It has a mass of 9g and a volume of 3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its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an eraser. It has a mass of 3g, and a volume of 1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its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on these problems with your neighb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has a rock. The rock has a mass of 6g and a volume of 3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the density of the ro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ll has a gel pen. The gel pen has a mass of 8g and a volume of 2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the density of the 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ow, try these on your ow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ly has a watch. It has a mass of 4g and a volume of 2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the density of the wat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a has a wallet. It has a mass of 15g and a volume of 5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the density of the wall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919ff"/>
                </a:solidFill>
                <a:latin typeface="Arial"/>
              </a:rPr>
              <a:t>Liquid Laye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If you pour liquids together that don’t mix and have different densities, they will form liquid la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quid with the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highest den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be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on the bott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quid with the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lowest den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be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on the t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quid Layers-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ayer has the highest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ayer has the lowest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e that the liquids have the following densit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0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6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5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number would go with which lay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ensity column 3"/>
          <p:cNvPicPr/>
          <p:nvPr/>
        </p:nvPicPr>
        <p:blipFill>
          <a:blip r:embed="rId1"/>
          <a:srcRect l="0" t="0" r="66146" b="59639"/>
          <a:stretch/>
        </p:blipFill>
        <p:spPr>
          <a:xfrm>
            <a:off x="6095880" y="1523880"/>
            <a:ext cx="2718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quid Layers-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iquid has the highest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iquid has the lowest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iquid has the middle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DensityColumn"/>
          <p:cNvPicPr/>
          <p:nvPr/>
        </p:nvPicPr>
        <p:blipFill>
          <a:blip r:embed="rId1"/>
          <a:stretch/>
        </p:blipFill>
        <p:spPr>
          <a:xfrm>
            <a:off x="457200" y="1447920"/>
            <a:ext cx="4038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quid Layers-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e that the liquids on the right have the following dens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5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10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9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7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12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the colors to the correct dens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density column 2"/>
          <p:cNvPicPr/>
          <p:nvPr/>
        </p:nvPicPr>
        <p:blipFill>
          <a:blip r:embed="rId1"/>
          <a:srcRect l="32079" t="5402" r="37737" b="24165"/>
          <a:stretch/>
        </p:blipFill>
        <p:spPr>
          <a:xfrm>
            <a:off x="4876920" y="1523880"/>
            <a:ext cx="3809880" cy="48769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7"/>
          <p:cNvSpPr/>
          <p:nvPr/>
        </p:nvSpPr>
        <p:spPr>
          <a:xfrm>
            <a:off x="5341680" y="25146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7627680" y="31240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5493960" y="38098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7627680" y="449568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5265360" y="502920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7772400" y="5638680"/>
            <a:ext cx="10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5257800" y="2590920"/>
            <a:ext cx="9907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5562720" y="3809880"/>
            <a:ext cx="7617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334120" y="5029200"/>
            <a:ext cx="9144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7620120" y="3124080"/>
            <a:ext cx="8380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7620120" y="4495680"/>
            <a:ext cx="99036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7772400" y="5638680"/>
            <a:ext cx="9144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formula for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if you pour together liquids that have different dens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the liquid on the top have the highest or lowest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the liquid on the bottom have the highest or lowest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uoyancy and Buoyant For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oyancy -The ability to 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s on a submerged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and other fluids exert an upward fo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s in the direction opposite to the force of gravity so it makes an object feel ligh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038560" y="2484360"/>
            <a:ext cx="32576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ravity and Buoyant For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44792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 of a submerged object is a downward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sinks if pressure is gr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ight is equal to buoyant force the object will float either partly submerged or totally(depends on we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weight will float- like a jelly fish; Greater weight will s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Content Placeholder 4" descr=""/>
          <p:cNvPicPr/>
          <p:nvPr/>
        </p:nvPicPr>
        <p:blipFill>
          <a:blip r:embed="rId1"/>
          <a:stretch/>
        </p:blipFill>
        <p:spPr>
          <a:xfrm>
            <a:off x="6858000" y="1447920"/>
            <a:ext cx="123840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s://encrypted-tbn1.gstatic.com/images?q=tbn:ANd9GcR9A09J8nMkJLp8RcmFRJ1tycTRCL0oxtUcPb_AyssMkFabqyjU"/>
          <p:cNvPicPr/>
          <p:nvPr/>
        </p:nvPicPr>
        <p:blipFill>
          <a:blip r:embed="rId2"/>
          <a:stretch/>
        </p:blipFill>
        <p:spPr>
          <a:xfrm>
            <a:off x="5486400" y="3344760"/>
            <a:ext cx="36576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rchimedes’ Princip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ian of ancient Gre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: the buoyant force acting on a submerged object is equal to the weight of the fluid the object disp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suppose your body displaces 50 liters of water in a swimming pool…The buoyant force exerted on you will be equal to the weight of 50 liters of water or about 500 N (newt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uoyancy Vide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brainpop.com/science/motionsforcesandtime/buoyancy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density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is a comparison of how much matter there is in a certain amount of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anging Dens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32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make an object sink or float in a fluid by changing d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ice expands when freezes and occupies more space then liquid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helium in a balloon which is less dense then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267080" y="1752480"/>
            <a:ext cx="4810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nsity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brainpop.com/science/matterandchemistry/measuringmatter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ich one is more den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: People in a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this: Which square is more d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447920" y="4038480"/>
            <a:ext cx="1904760" cy="1905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5334120" y="4038480"/>
            <a:ext cx="1904760" cy="1905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1676520" y="41911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1905120" y="5410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8"/>
          <p:cNvSpPr/>
          <p:nvPr/>
        </p:nvSpPr>
        <p:spPr>
          <a:xfrm>
            <a:off x="2666880" y="46483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2971800" y="56386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0"/>
          <p:cNvSpPr/>
          <p:nvPr/>
        </p:nvSpPr>
        <p:spPr>
          <a:xfrm>
            <a:off x="1981080" y="4724280"/>
            <a:ext cx="15264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2"/>
          <p:cNvSpPr/>
          <p:nvPr/>
        </p:nvSpPr>
        <p:spPr>
          <a:xfrm>
            <a:off x="5562720" y="4267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3"/>
          <p:cNvSpPr/>
          <p:nvPr/>
        </p:nvSpPr>
        <p:spPr>
          <a:xfrm>
            <a:off x="5943600" y="4267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4"/>
          <p:cNvSpPr/>
          <p:nvPr/>
        </p:nvSpPr>
        <p:spPr>
          <a:xfrm>
            <a:off x="5638680" y="48769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5"/>
          <p:cNvSpPr/>
          <p:nvPr/>
        </p:nvSpPr>
        <p:spPr>
          <a:xfrm>
            <a:off x="6477120" y="43434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6"/>
          <p:cNvSpPr/>
          <p:nvPr/>
        </p:nvSpPr>
        <p:spPr>
          <a:xfrm>
            <a:off x="6095880" y="55627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7"/>
          <p:cNvSpPr/>
          <p:nvPr/>
        </p:nvSpPr>
        <p:spPr>
          <a:xfrm>
            <a:off x="6095880" y="4952880"/>
            <a:ext cx="15264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8"/>
          <p:cNvSpPr/>
          <p:nvPr/>
        </p:nvSpPr>
        <p:spPr>
          <a:xfrm>
            <a:off x="6477120" y="48006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9"/>
          <p:cNvSpPr/>
          <p:nvPr/>
        </p:nvSpPr>
        <p:spPr>
          <a:xfrm>
            <a:off x="6858000" y="44956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0"/>
          <p:cNvSpPr/>
          <p:nvPr/>
        </p:nvSpPr>
        <p:spPr>
          <a:xfrm>
            <a:off x="6324480" y="525780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1"/>
          <p:cNvSpPr/>
          <p:nvPr/>
        </p:nvSpPr>
        <p:spPr>
          <a:xfrm>
            <a:off x="6934320" y="5029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22"/>
          <p:cNvSpPr/>
          <p:nvPr/>
        </p:nvSpPr>
        <p:spPr>
          <a:xfrm>
            <a:off x="5715000" y="56386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3"/>
          <p:cNvSpPr/>
          <p:nvPr/>
        </p:nvSpPr>
        <p:spPr>
          <a:xfrm>
            <a:off x="6934320" y="56386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4"/>
          <p:cNvSpPr/>
          <p:nvPr/>
        </p:nvSpPr>
        <p:spPr>
          <a:xfrm>
            <a:off x="5410080" y="457200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5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6"/>
          <p:cNvSpPr/>
          <p:nvPr/>
        </p:nvSpPr>
        <p:spPr>
          <a:xfrm>
            <a:off x="6477120" y="56386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7"/>
          <p:cNvSpPr/>
          <p:nvPr/>
        </p:nvSpPr>
        <p:spPr>
          <a:xfrm>
            <a:off x="6172200" y="46483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8"/>
          <p:cNvSpPr/>
          <p:nvPr/>
        </p:nvSpPr>
        <p:spPr>
          <a:xfrm>
            <a:off x="5715000" y="51814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9"/>
          <p:cNvSpPr/>
          <p:nvPr/>
        </p:nvSpPr>
        <p:spPr>
          <a:xfrm>
            <a:off x="6629400" y="5029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0"/>
          <p:cNvSpPr/>
          <p:nvPr/>
        </p:nvSpPr>
        <p:spPr>
          <a:xfrm>
            <a:off x="6629400" y="53341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1"/>
          <p:cNvSpPr/>
          <p:nvPr/>
        </p:nvSpPr>
        <p:spPr>
          <a:xfrm>
            <a:off x="6705720" y="41911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7:35:32Z</dcterms:created>
  <dc:creator>Rebecca Walter</dc:creator>
  <dc:description/>
  <dc:language>en-US</dc:language>
  <cp:lastModifiedBy>LCS Staff</cp:lastModifiedBy>
  <dcterms:modified xsi:type="dcterms:W3CDTF">2014-01-03T17:23:56Z</dcterms:modified>
  <cp:revision>16</cp:revision>
  <dc:subject/>
  <dc:title>Density</dc:title>
</cp:coreProperties>
</file>